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7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25.png" ContentType="image/png"/>
  <Override PartName="/ppt/media/image19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applause.wav" ContentType="audio/x-wav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29.gif" ContentType="image/gif"/>
  <Override PartName="/ppt/media/image15.jpeg" ContentType="image/jpeg"/>
  <Override PartName="/ppt/media/image16.gif" ContentType="image/gif"/>
  <Override PartName="/ppt/media/image17.png" ContentType="image/png"/>
  <Override PartName="/ppt/media/image18.png" ContentType="image/png"/>
  <Override PartName="/ppt/media/type.wav" ContentType="audio/x-wav"/>
  <Override PartName="/ppt/media/image20.jpeg" ContentType="image/jpeg"/>
  <Override PartName="/ppt/media/image21.jpeg" ContentType="image/jpeg"/>
  <Override PartName="/ppt/media/image23.jpeg" ContentType="image/jpeg"/>
  <Override PartName="/ppt/media/image24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F29-B8DE-4EEF-AB21-1C926156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2D67-EBC8-42CC-89DA-945C75F0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19A-7BFA-40D4-9D6A-02D8E22B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CB5-E2EF-40CD-BE24-55821BDC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F71-C1C6-4078-BB8E-3D14C40D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10E-4885-49B8-9A61-161C7C3B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2B1-A9F3-48C2-9B2A-DBF8879C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F7B-E066-4ADB-AE10-D6483440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964-8BE5-403C-9BFD-1CC4A373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94C7-4B31-4CA7-81B2-70F299C2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603-393C-42CA-B383-2D039981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E26-EB33-43D6-84D7-4B182C8E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CEFD-8ABC-4B3A-85F8-C21C4DE52E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Unit%205%20language%20point1.ppt" TargetMode="External"/><Relationship Id="rId3" Type="http://schemas.openxmlformats.org/officeDocument/2006/relationships/image" Target="../media/image16.gif"/><Relationship Id="rId4" Type="http://schemas.openxmlformats.org/officeDocument/2006/relationships/hyperlink" Target="file:///Unit%205%20language%20point%202.ppt" TargetMode="External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file:///Unit%205%20language%20point3.ppt" TargetMode="External"/><Relationship Id="rId3" Type="http://schemas.openxmlformats.org/officeDocument/2006/relationships/image" Target="../media/image16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centennial%20Man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2768760" cy="3581280"/>
          </a:xfrm>
          <a:prstGeom prst="rect">
            <a:avLst/>
          </a:prstGeom>
          <a:ln w="0">
            <a:noFill/>
          </a:ln>
        </p:spPr>
      </p:pic>
      <p:pic>
        <p:nvPicPr>
          <p:cNvPr id="42" name="Jurassic%20Park1" descr=""/>
          <p:cNvPicPr/>
          <p:nvPr/>
        </p:nvPicPr>
        <p:blipFill>
          <a:blip r:embed="rId2"/>
          <a:stretch/>
        </p:blipFill>
        <p:spPr>
          <a:xfrm>
            <a:off x="5181480" y="0"/>
            <a:ext cx="39006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Hero6" descr=""/>
          <p:cNvPicPr/>
          <p:nvPr/>
        </p:nvPicPr>
        <p:blipFill>
          <a:blip r:embed="rId3"/>
          <a:stretch/>
        </p:blipFill>
        <p:spPr>
          <a:xfrm>
            <a:off x="0" y="0"/>
            <a:ext cx="260352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Mulan" descr=""/>
          <p:cNvPicPr/>
          <p:nvPr/>
        </p:nvPicPr>
        <p:blipFill>
          <a:blip r:embed="rId4"/>
          <a:stretch/>
        </p:blipFill>
        <p:spPr>
          <a:xfrm>
            <a:off x="0" y="3352680"/>
            <a:ext cx="259092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Keanu%20Reeves" descr=""/>
          <p:cNvPicPr/>
          <p:nvPr/>
        </p:nvPicPr>
        <p:blipFill>
          <a:blip r:embed="rId5"/>
          <a:stretch/>
        </p:blipFill>
        <p:spPr>
          <a:xfrm>
            <a:off x="2590920" y="0"/>
            <a:ext cx="2577960" cy="3352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371600" y="2286000"/>
            <a:ext cx="60958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Westminster"/>
              </a:rPr>
              <a:t>The Silver Screen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Westminster"/>
              <a:ea typeface="Westminster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0948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Times New Roman"/>
              </a:rPr>
              <a:t>Unit 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781680" y="0"/>
            <a:ext cx="2362320" cy="2209680"/>
          </a:xfrm>
          <a:prstGeom prst="irregularSeal1">
            <a:avLst/>
          </a:prstGeom>
          <a:solidFill>
            <a:srgbClr val="ffff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8839440" cy="65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Make Comments on a fil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, tell the story in your own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, make comments on different things about the film,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feel about the story?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 actors/actresses very good or not? Why do you think 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 lot of action in the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feel about the ending of the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, you have to give your opinion about the whol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lm. If you think highly of the film you may encour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people to go and see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73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1717"/>
                </a:solidFill>
                <a:latin typeface="Times New Roman"/>
              </a:rPr>
              <a:t>T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8047080" y="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828800" y="1219320"/>
            <a:ext cx="5410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Thank   You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IT" descr=""/>
          <p:cNvPicPr/>
          <p:nvPr/>
        </p:nvPicPr>
        <p:blipFill>
          <a:blip r:embed="rId2"/>
          <a:stretch/>
        </p:blipFill>
        <p:spPr>
          <a:xfrm>
            <a:off x="685800" y="58680"/>
            <a:ext cx="3200400" cy="2151000"/>
          </a:xfrm>
          <a:prstGeom prst="rect">
            <a:avLst/>
          </a:prstGeom>
          <a:ln w="0">
            <a:noFill/>
          </a:ln>
        </p:spPr>
      </p:pic>
      <p:pic>
        <p:nvPicPr>
          <p:cNvPr id="50" name="Hero1" descr=""/>
          <p:cNvPicPr/>
          <p:nvPr/>
        </p:nvPicPr>
        <p:blipFill>
          <a:blip r:embed="rId3"/>
          <a:stretch/>
        </p:blipFill>
        <p:spPr>
          <a:xfrm>
            <a:off x="5257800" y="3422520"/>
            <a:ext cx="3352680" cy="2216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2362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Bicentennial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5791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jurassicpark1" descr=""/>
          <p:cNvPicPr/>
          <p:nvPr/>
        </p:nvPicPr>
        <p:blipFill>
          <a:blip r:embed="rId4"/>
          <a:stretch/>
        </p:blipFill>
        <p:spPr>
          <a:xfrm>
            <a:off x="685800" y="3429000"/>
            <a:ext cx="3200400" cy="2125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Jurassic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ulan1" descr=""/>
          <p:cNvPicPr/>
          <p:nvPr/>
        </p:nvPicPr>
        <p:blipFill>
          <a:blip r:embed="rId5"/>
          <a:stretch/>
        </p:blipFill>
        <p:spPr>
          <a:xfrm>
            <a:off x="5257800" y="76320"/>
            <a:ext cx="3162240" cy="228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553080" y="2362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Mu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152280"/>
            <a:ext cx="8991720" cy="65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What do we know about the city where Malcolm Grew 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What did he want to be when he was a stud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What was the reason why Malcolm studied la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ason is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When did Malcolm really start his career in the thea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Why was the film cal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ream Mach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mportant to Malcol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13255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000"/>
                </a:solidFill>
                <a:latin typeface="Times New Roman"/>
              </a:rPr>
              <a:t>a small town far from the big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4066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000"/>
                </a:solidFill>
                <a:latin typeface="Times New Roman"/>
              </a:rPr>
              <a:t>When Malcolm was young he wanted to be a teach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535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000"/>
                </a:solidFill>
                <a:latin typeface="Times New Roman"/>
              </a:rPr>
              <a:t>his father wanted him to study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46623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3000"/>
                </a:solidFill>
                <a:latin typeface="Times New Roman"/>
              </a:rPr>
              <a:t>Malcolm met Fiona, he started his career in the thea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61102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3000"/>
                </a:solidFill>
                <a:latin typeface="Times New Roman"/>
              </a:rPr>
              <a:t>important because he did not have any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Keanu%20Reeves1" descr=""/>
          <p:cNvPicPr/>
          <p:nvPr/>
        </p:nvPicPr>
        <p:blipFill>
          <a:blip r:embed="rId2"/>
          <a:stretch/>
        </p:blipFill>
        <p:spPr>
          <a:xfrm>
            <a:off x="7147080" y="3429000"/>
            <a:ext cx="199692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Meryl%20streep" descr=""/>
          <p:cNvPicPr/>
          <p:nvPr/>
        </p:nvPicPr>
        <p:blipFill>
          <a:blip r:embed="rId3"/>
          <a:stretch/>
        </p:blipFill>
        <p:spPr>
          <a:xfrm>
            <a:off x="7086600" y="0"/>
            <a:ext cx="2095560" cy="2514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08660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Meryl Str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6248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Keanu Ree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0944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When and where was Meryl Streep bor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How did he begin to act in pla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When did she began to act in her first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at about his famil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65760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When and where was Keanu Reeves bor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Where did Keanu Reeves grow u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What about the time when he was you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at did make him famou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背景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Keanu%20Reeves1" descr=""/>
          <p:cNvPicPr/>
          <p:nvPr/>
        </p:nvPicPr>
        <p:blipFill>
          <a:blip r:embed="rId2"/>
          <a:stretch/>
        </p:blipFill>
        <p:spPr>
          <a:xfrm>
            <a:off x="66600" y="76320"/>
            <a:ext cx="2371680" cy="3124080"/>
          </a:xfrm>
          <a:prstGeom prst="rect">
            <a:avLst/>
          </a:prstGeom>
          <a:ln w="0">
            <a:noFill/>
          </a:ln>
        </p:spPr>
      </p:pic>
      <p:pic>
        <p:nvPicPr>
          <p:cNvPr id="73" name="Meryl%20streep" descr=""/>
          <p:cNvPicPr/>
          <p:nvPr/>
        </p:nvPicPr>
        <p:blipFill>
          <a:blip r:embed="rId3"/>
          <a:stretch/>
        </p:blipFill>
        <p:spPr>
          <a:xfrm>
            <a:off x="6413400" y="76320"/>
            <a:ext cx="273060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320" y="3367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Keanu Ree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3443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eryl Stre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609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TERVIE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733920"/>
            <a:ext cx="883908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tudied/worked/acted at differen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…and then…          What did you do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you found a job as …    Later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roles did you act?   How long have you b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as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背景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973080"/>
            <a:ext cx="8534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first part (the first paragraph) --- Steven Spielberg is a passionate about film from a very early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131920"/>
            <a:ext cx="861048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second part (the second paragraph) --- He could not go to the Film Academy but later his career began to take of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3641760"/>
            <a:ext cx="8610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third part (the next four paragraph) it is about several of Steven Spielberg’s successful fil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784760"/>
            <a:ext cx="88394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forth part (the last paragraph) What Steven Spielberg has said and wr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182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our parts of the t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GIF05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0640" y="3276720"/>
            <a:ext cx="876240" cy="291960"/>
          </a:xfrm>
          <a:prstGeom prst="rect">
            <a:avLst/>
          </a:prstGeom>
          <a:ln w="0">
            <a:noFill/>
          </a:ln>
        </p:spPr>
      </p:pic>
      <p:pic>
        <p:nvPicPr>
          <p:cNvPr id="85" name="GIF05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5486400"/>
            <a:ext cx="99072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320" y="76320"/>
            <a:ext cx="8991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famous films of Spielbe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aw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975) is about a big shark that attacks and eats swimm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982) is about a little creature that comes from outer space and wants to go h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urassic Par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993) is about an island where a very rich man keeps all kinds of dinosa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Schindler’s List(1993) is about the cruelty of war/a German who saved thousands of Jewish people from being killed in the w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Saving Private Ryan(1998) is also about the cruelty of war/an American captain who led his team to search for a soldier named Ry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一个不能少1" descr=""/>
          <p:cNvPicPr/>
          <p:nvPr/>
        </p:nvPicPr>
        <p:blipFill>
          <a:blip r:embed="rId2"/>
          <a:stretch/>
        </p:blipFill>
        <p:spPr>
          <a:xfrm>
            <a:off x="324000" y="162000"/>
            <a:ext cx="3409920" cy="2276280"/>
          </a:xfrm>
          <a:prstGeom prst="rect">
            <a:avLst/>
          </a:prstGeom>
          <a:ln w="0">
            <a:noFill/>
          </a:ln>
        </p:spPr>
      </p:pic>
      <p:pic>
        <p:nvPicPr>
          <p:cNvPr id="90" name="一个不能少2" descr=""/>
          <p:cNvPicPr/>
          <p:nvPr/>
        </p:nvPicPr>
        <p:blipFill>
          <a:blip r:embed="rId3"/>
          <a:stretch/>
        </p:blipFill>
        <p:spPr>
          <a:xfrm>
            <a:off x="-47520" y="4038480"/>
            <a:ext cx="340020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一个不能少3" descr=""/>
          <p:cNvPicPr/>
          <p:nvPr/>
        </p:nvPicPr>
        <p:blipFill>
          <a:blip r:embed="rId4"/>
          <a:stretch/>
        </p:blipFill>
        <p:spPr>
          <a:xfrm>
            <a:off x="6838920" y="3467160"/>
            <a:ext cx="2305080" cy="3390840"/>
          </a:xfrm>
          <a:prstGeom prst="rect">
            <a:avLst/>
          </a:prstGeom>
          <a:ln w="0">
            <a:noFill/>
          </a:ln>
        </p:spPr>
      </p:pic>
      <p:pic>
        <p:nvPicPr>
          <p:cNvPr id="92" name="一个不能少4" descr=""/>
          <p:cNvPicPr/>
          <p:nvPr/>
        </p:nvPicPr>
        <p:blipFill>
          <a:blip r:embed="rId5"/>
          <a:stretch/>
        </p:blipFill>
        <p:spPr>
          <a:xfrm>
            <a:off x="3371760" y="4410000"/>
            <a:ext cx="3409920" cy="2295720"/>
          </a:xfrm>
          <a:prstGeom prst="rect">
            <a:avLst/>
          </a:prstGeom>
          <a:ln w="0">
            <a:noFill/>
          </a:ln>
        </p:spPr>
      </p:pic>
      <p:pic>
        <p:nvPicPr>
          <p:cNvPr id="93" name="一个不能少5" descr=""/>
          <p:cNvPicPr/>
          <p:nvPr/>
        </p:nvPicPr>
        <p:blipFill>
          <a:blip r:embed="rId6"/>
          <a:stretch/>
        </p:blipFill>
        <p:spPr>
          <a:xfrm>
            <a:off x="5429160" y="152280"/>
            <a:ext cx="3409920" cy="2314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95480" y="2057400"/>
            <a:ext cx="3124440" cy="1981080"/>
          </a:xfrm>
          <a:prstGeom prst="cloudCallout">
            <a:avLst>
              <a:gd name="adj1" fmla="val 70324"/>
              <a:gd name="adj2" fmla="val 53925"/>
            </a:avLst>
          </a:prstGeom>
          <a:solidFill>
            <a:srgbClr val="b7ff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36232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Orange LET"/>
              </a:rPr>
              <a:t>Not One 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2133720"/>
            <a:ext cx="144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t One 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228600"/>
            <a:ext cx="457200" cy="5791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763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. Gao, Mr. Tian, Minzhi, Huike Some other pup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9288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99072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film is about a 13-year-old girl, called Wei Minzhi, who takes care of the village school when the teacher, Mr. Gao, is away for a month. She has to make sure that all the students stay in the school. When one of them – Huike runs away to the city, she follows him and bring him back, together with the people from the TV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64832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people like this film not only because the story itself is moving, but also because most of the people in the film use their real names and pla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flipH="1" rot="10800000">
            <a:off x="6324480" y="3962160"/>
            <a:ext cx="106704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08:13:06Z</dcterms:created>
  <dc:creator>user</dc:creator>
  <dc:description/>
  <dc:language>en-US</dc:language>
  <cp:lastModifiedBy> </cp:lastModifiedBy>
  <dcterms:modified xsi:type="dcterms:W3CDTF">2004-08-15T03:08:10Z</dcterms:modified>
  <cp:revision>40</cp:revision>
  <dc:subject/>
  <dc:title>PowerPoint 演示文稿</dc:title>
</cp:coreProperties>
</file>